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00B8-7DB3-4B4B-89F7-0DCFD9F7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4EA9-F707-40D4-BF24-AD6692F053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425D-CFF7-4C73-B7C2-4E0F8BB859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E93-D9D0-4C52-AAB9-E73C6D125C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504-377C-431A-A338-52E04A273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FD7-DA39-4496-A321-21E3A122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222-BEEA-4355-AEF6-601F97C8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EDDDE-C67B-469A-B619-874F488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D3F88-104A-4F9A-ADC4-761E3E08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2E91-2D75-4826-A6A7-6B8EB91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2A732-022E-4255-AD7E-285C09D2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55980-79D2-409A-8863-0EC638A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B9B59-7571-46B3-BC29-D3DEDD4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B1F90-10C0-420B-936A-002A382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CB470-5D8D-4FE4-BBC6-9A620CDA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18E43-D81B-4AEF-B81C-43D22434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77B89-2455-406F-A8D0-F107EC2A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187-AC26-4E5B-BB7C-99EBAABD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CD5E3-9BED-436E-BAD4-5F8EB45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01851-A95E-4FE7-80FA-9F15D51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5E1EB-3EFC-48A3-A1D1-57220A38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61960-84CE-43E5-B420-75588E3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6DE0D-C359-42C6-8DD5-392E8C2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55D64-14F2-4B87-ABEA-4E16B89F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2D281-83A3-432A-A055-D09A15B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FE535-892A-40D4-805A-D793639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824F8-48B7-4B52-BC11-D0C41D1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50928-158F-411C-812C-3A6C3AFE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BD3-CEB4-4930-895C-A15FF286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F9BC-2168-4B93-B967-CD6301AF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C1786-53FF-48C3-8E97-020F5829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CF017-A2F3-4BBE-AEAC-B4BB8F4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CC8D3-A1A7-4B96-8A4F-55A1C606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3DFD3-F8C2-4C04-94CC-E3FD1BF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84D6F-A54E-4EF2-B1A8-A96C1604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42E8-4DDC-4EEB-8912-D4D1BAC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0D9FB-1ADE-4947-815C-1BE967E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85331-7004-4605-A94D-1FBBE79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635D-A5F3-4B0F-A25A-68BB4E0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5548-7E86-41B9-ACCA-D87D8D8B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9D80D-D674-4E58-910C-7F4A018B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9F22A-5432-4C6F-9DD1-94EA9B64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3D66-1DC5-45C6-8513-D3A9A965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004B4-1D80-490C-A725-E3904010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E89AA-4959-426A-ADED-51DFEBB4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0C8A2-DC80-41DD-8C08-EE95DD4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28269-BCB6-4DA0-ABA2-1C9CDD75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29CA1-6D05-4E3E-8B0B-ABF07C46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52D95-44A8-4518-93C6-ED95C3F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E6518-098A-4A9A-893E-E7ED418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E734-D388-4EC6-9428-A26D2BE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416FD-F931-4582-A47B-0C7D710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7B626-F92E-4200-8438-D9D9C3E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56BAC-A146-497B-BA9F-C91B5622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6EA47-7903-44CA-8377-CAE56A4C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F4B90-2FB9-411C-9C28-E7C0DADC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FBAC2-7A22-4A23-B40D-615C1CC3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FED01-FE11-426F-8813-D2D0F72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6167C-4C28-4C88-80C1-29F48DE1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E068E-4A6A-41D6-848A-84EF94E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EFB06-FEBD-4A5D-A2A6-4A592ACB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4311-D884-4C2A-B7CB-8388C33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F361A-36CD-40D3-BAD2-C9FD1B3E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7851D-6210-4C79-8280-CDB3397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BE8EC-02E5-4E97-8F90-D89187B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C505F-FABA-4CD9-A689-DCA0C15D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DA9D2-3C6E-450D-8EF2-64CC6E4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AFB43-419F-4A49-A245-940D5736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AD60C-7723-4BD9-92EC-007BBD91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680F6-C2B4-4576-A7C6-A1BEEA6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EA449-1046-4B8D-8D68-EB616070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F3E1A-A244-48BF-A8B9-E52557AD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32D1-4D87-40D8-B8A7-7DEF1D7F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AACF6-2331-47DD-9595-D0969FA1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216CC-9E58-468C-9DB6-78E4CBC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8BA73-42F6-4CAE-897D-CC4FC62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3949D-4593-49FE-9A76-5A4418B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B30F8-90F9-4F1A-8AA8-E8BF7B6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44AC1-795C-40F0-9FD1-3F90AF8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ADAA3-D628-4B4F-9B2C-35FFCC93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2398D-A0BA-414B-A449-2B553E74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BDDF6-4863-4F4D-BA7E-E272E1FE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00418-61CE-47B7-9A43-91983AE0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4EB-4B49-4187-9738-83463E6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616BE-DFAA-4491-B5AA-75204A6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D1944-4726-455C-8A45-3D76362C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1BA0E-CE6E-49FE-8049-8F8A33C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75DF1-5F93-4C06-A01B-51A74E8A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4E0A5-9BD0-47EF-BB69-5E1BF3E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DA163-5BC9-4637-BA22-B61B16FC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3D57D-B1AB-469E-BCEF-B296964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00AAE-0A7A-4879-9D68-4C91BE49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1E1CB-4B11-4FE5-A745-5B6C178B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BB9EE-AB8E-4F4C-8F32-C350F174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A92C-74D8-4E2E-A1E1-48559F06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8CA97-744F-4257-99E6-1422C330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C3E9F-FBFF-4629-83FA-ED6DE216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192AC-8CB2-41B0-B8B9-75CA0B9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95CD1-031F-41D2-AA57-087F52E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1C4E2-36D1-4D24-B087-5870CB95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67A41-B91B-4D3B-8BB7-AFA94A4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EAE89-8974-4A18-9917-6064767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E44B3-224E-483A-8E59-3E8A1DF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82A23-783A-469E-BFA7-0950165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2A4EB-4451-4730-A29F-935F9D4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4C75-1639-4DE4-8BCB-808C4D7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A14D1-DF6A-46B0-88C0-4C7F3E55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DDBF1-AF22-4625-BE04-062E88DA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AE317-6421-454E-B57C-F3AD21AB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DDA-B5FD-42B9-B917-74BF520C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E5B-AC0E-4F95-8D48-F608969A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9AC9-60DA-452C-9A21-8445165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764B-AC9F-45C2-99B0-534B59FB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D983-D0C9-4FA6-BF68-78DFCB55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047A-3DD7-4881-B338-131B73FC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D84D-3712-4C9A-8FD2-02D6514C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5033-AAB5-4641-939E-83C2A6D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A9A5-D56D-4974-9D2B-43091E57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4365-314E-4204-9D02-3EB219ED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7B5C-14DE-48EA-A5E1-0790946B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27F-3C06-4DAE-B26A-66263E11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8B22-9610-4A50-B134-F4B43016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7099-BAF2-4595-9CBB-0357964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B394-A30E-41E8-9410-387CF8B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407E-DAA2-40AE-A9DC-3E869D1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81C2-4582-4E87-8A70-E7211CD1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863E-1FAC-41EF-9BE7-EA30E1DB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0CE4-1F6C-4598-A5C9-89684E24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273E-B94C-43F3-82BE-1E534CB9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B9F0-3E20-4AFD-B585-1E32C0EB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D42F-1C49-4D8C-8C1E-E57C71F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F37-7241-48B3-962E-188A72F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43F4-7B28-4CE6-86CA-EEFD7FC6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7D86-78BC-4BE7-8809-729EE30B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2725-B016-40EF-8766-D81D75F2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7AA7-3E52-4023-B561-D510A5B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A1E6-9C6E-4717-9CE3-45A90867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5773-ACEB-4627-866D-9CEAFF7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3E49-A020-423F-AFBA-E4FEC1D3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895F8-92E1-4722-9DF9-9AEB5D7E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EE34-F1F8-4004-A8E4-30ECE187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F7FA-0A8D-4963-A19F-78ADB248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2FF-7664-44B6-8DED-C3156FE4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C002-D7F7-42D0-A4FD-B331257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C22C-D459-4488-8531-8A3B91F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2E69-480F-4E8E-9DC2-3376C8E9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60E6-7DE6-4161-A8A7-3E9C231A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A097-6ACC-44F2-987F-8DA739C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272BE-B389-4C60-92DD-3A2CA13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7EA3-C321-4483-9D58-AEAF715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BEAB-F8A1-4262-8F49-5618B924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F73FF-AB54-4C3F-8F81-4DC2851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6224-54C4-4E85-BC44-B3CE4519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C45-4A60-49E4-AC05-7F889E6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DA572-862A-4204-B955-6A324E0C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126D-B6FA-472B-93D2-862E9D27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9E7EA-B28A-4059-92C2-1EFDE911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D667-CD77-474C-B62E-EB24244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95E5-84D2-4C38-9F19-185E3232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2945-FD46-4FEA-BA0D-552DDDF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B78C-64B7-448C-9A64-81CD9CA2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7C61-AAF1-4359-80BF-CF50266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E6B2E-3B5D-41A2-A16F-5ED61126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F135-5DD1-4F39-AFE0-0FC71C7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4BE-568F-4C6B-9BD2-5286620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9666-1817-4FA5-A25F-DE6920EC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0056-38A8-4DDA-96FD-AE0E77E8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A135-87BA-4186-8177-1F7C0C1E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8BA63-67C6-4D0D-857C-E932027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E626-163E-4131-BAC5-945452D6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1B2E-84DF-407A-96C0-7A348DC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FC34-0686-49F1-9B00-DBCBA896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6F78B-CE38-4523-86C9-863CD972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CD38-A26E-429E-8EBA-1914998A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AEEE8-C976-419E-A62C-855B300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27F-8D87-42AF-85BF-E00519B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20AE-15F3-4809-AD90-8B3B963C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A4003-B462-49BF-A270-CEB3B383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85CA-14E9-4FA1-B6E1-E12A8CA3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33A3-7A27-46FA-875A-C1D03423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1758-C19F-4B90-BE98-08EBB42F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FB4C1-14EE-47BC-9418-902C3626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D90D-DC74-4771-97F5-99A6FE6A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FAA5D-3D6C-4B53-9AEE-8C7A06A0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B39D-EB58-41A3-9B6B-DAFED736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37A4F-91ED-4C2D-A9AB-C9B83D0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D87-8ABD-4371-B22A-6074B4E0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7D011-9583-470C-9ED1-58C27F4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7182F-1246-4E0B-AD37-8FC6BE1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C44D-05CD-4F7B-BB77-76B3D9A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F0F1-4C6B-4589-9AA0-715C00E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F4B5-1D52-4DAD-86D2-D9B21E35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A77C2-C139-492D-85E4-963E5137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47F7C-CB11-4FFC-B6C1-52087643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DACF4-E7A3-491E-BBF7-440C5C85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5EFAF-E37B-486F-802F-EA370E21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3081A-C84D-44A7-8896-3980EAFA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1860-AC54-4CB8-B24D-755A1A62F3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직사각형 8"/>
          <p:cNvSpPr/>
          <p:nvPr/>
        </p:nvSpPr>
        <p:spPr>
          <a:xfrm rot="21422400">
            <a:off x="609120" y="1000080"/>
            <a:ext cx="4000680" cy="4857840"/>
          </a:xfrm>
          <a:prstGeom prst="rect">
            <a:avLst/>
          </a:prstGeom>
          <a:solidFill>
            <a:srgbClr val="f8f8f8"/>
          </a:solidFill>
          <a:ln cap="sq" w="3240">
            <a:solidFill>
              <a:srgbClr val="c0c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그룹 9"/>
          <p:cNvGrpSpPr/>
          <p:nvPr/>
        </p:nvGrpSpPr>
        <p:grpSpPr>
          <a:xfrm>
            <a:off x="8116920" y="46080"/>
            <a:ext cx="1000080" cy="1036440"/>
            <a:chOff x="8116920" y="46080"/>
            <a:chExt cx="1000080" cy="1036440"/>
          </a:xfrm>
        </p:grpSpPr>
        <p:sp>
          <p:nvSpPr>
            <p:cNvPr id="446" name="자유형 10"/>
            <p:cNvSpPr/>
            <p:nvPr/>
          </p:nvSpPr>
          <p:spPr>
            <a:xfrm>
              <a:off x="8386560" y="460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자유형 11"/>
            <p:cNvSpPr/>
            <p:nvPr/>
          </p:nvSpPr>
          <p:spPr>
            <a:xfrm>
              <a:off x="8116920" y="5936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자유형 12"/>
            <p:cNvSpPr/>
            <p:nvPr/>
          </p:nvSpPr>
          <p:spPr>
            <a:xfrm>
              <a:off x="8119800" y="460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자유형 13"/>
            <p:cNvSpPr/>
            <p:nvPr/>
          </p:nvSpPr>
          <p:spPr>
            <a:xfrm>
              <a:off x="8869320" y="8334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자유형 14"/>
            <p:cNvSpPr/>
            <p:nvPr/>
          </p:nvSpPr>
          <p:spPr>
            <a:xfrm>
              <a:off x="8389800" y="3157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8D60-B6B7-4DD6-BFCC-7B898B57F9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그룹 8"/>
          <p:cNvGrpSpPr/>
          <p:nvPr/>
        </p:nvGrpSpPr>
        <p:grpSpPr>
          <a:xfrm>
            <a:off x="61920" y="50760"/>
            <a:ext cx="1000080" cy="1036800"/>
            <a:chOff x="61920" y="50760"/>
            <a:chExt cx="1000080" cy="1036800"/>
          </a:xfrm>
        </p:grpSpPr>
        <p:sp>
          <p:nvSpPr>
            <p:cNvPr id="494" name="자유형 9"/>
            <p:cNvSpPr/>
            <p:nvPr/>
          </p:nvSpPr>
          <p:spPr>
            <a:xfrm>
              <a:off x="331560" y="507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자유형 10"/>
            <p:cNvSpPr/>
            <p:nvPr/>
          </p:nvSpPr>
          <p:spPr>
            <a:xfrm>
              <a:off x="61920" y="5986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자유형 11"/>
            <p:cNvSpPr/>
            <p:nvPr/>
          </p:nvSpPr>
          <p:spPr>
            <a:xfrm>
              <a:off x="64800" y="5076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자유형 12"/>
            <p:cNvSpPr/>
            <p:nvPr/>
          </p:nvSpPr>
          <p:spPr>
            <a:xfrm>
              <a:off x="814320" y="8384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자유형 13"/>
            <p:cNvSpPr/>
            <p:nvPr/>
          </p:nvSpPr>
          <p:spPr>
            <a:xfrm>
              <a:off x="334800" y="32076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188-57F5-494A-BA64-0AC3D69E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542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D7EF-EBA6-4AD1-A750-DA2BB8684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5F9B-B389-4180-A764-CEC975C59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FD0-7858-4881-9FA4-93BFDD819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557-94E3-48CF-8214-4AC2712931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C243-F6D0-486C-A315-6A6EC44479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44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47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CE8-1EB6-456E-B5FC-F55A675477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95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98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99AC-C66D-46C7-982C-8140EFB380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14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그룹 11"/>
          <p:cNvGrpSpPr/>
          <p:nvPr/>
        </p:nvGrpSpPr>
        <p:grpSpPr>
          <a:xfrm>
            <a:off x="142920" y="1857240"/>
            <a:ext cx="1000080" cy="1036800"/>
            <a:chOff x="142920" y="1857240"/>
            <a:chExt cx="1000080" cy="1036800"/>
          </a:xfrm>
        </p:grpSpPr>
        <p:sp>
          <p:nvSpPr>
            <p:cNvPr id="149" name="자유형 12"/>
            <p:cNvSpPr/>
            <p:nvPr/>
          </p:nvSpPr>
          <p:spPr>
            <a:xfrm>
              <a:off x="412560" y="18572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자유형 13"/>
            <p:cNvSpPr/>
            <p:nvPr/>
          </p:nvSpPr>
          <p:spPr>
            <a:xfrm>
              <a:off x="142920" y="24051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자유형 14"/>
            <p:cNvSpPr/>
            <p:nvPr/>
          </p:nvSpPr>
          <p:spPr>
            <a:xfrm>
              <a:off x="145800" y="185724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자유형 15"/>
            <p:cNvSpPr/>
            <p:nvPr/>
          </p:nvSpPr>
          <p:spPr>
            <a:xfrm>
              <a:off x="895320" y="26449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자유형 16"/>
            <p:cNvSpPr/>
            <p:nvPr/>
          </p:nvSpPr>
          <p:spPr>
            <a:xfrm>
              <a:off x="415800" y="212724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6DC-5AB4-48A8-B5D2-99623A4D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그룹 8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197" name="자유형 9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자유형 10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자유형 11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자유형 12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자유형 13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그룹 14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203" name="자유형 15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자유형 16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439-0C27-4D84-8F6A-785FB40D2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그룹 8"/>
          <p:cNvGrpSpPr/>
          <p:nvPr/>
        </p:nvGrpSpPr>
        <p:grpSpPr>
          <a:xfrm>
            <a:off x="71280" y="71280"/>
            <a:ext cx="1000440" cy="1036800"/>
            <a:chOff x="71280" y="71280"/>
            <a:chExt cx="1000440" cy="1036800"/>
          </a:xfrm>
        </p:grpSpPr>
        <p:sp>
          <p:nvSpPr>
            <p:cNvPr id="248" name="자유형 9"/>
            <p:cNvSpPr/>
            <p:nvPr/>
          </p:nvSpPr>
          <p:spPr>
            <a:xfrm>
              <a:off x="341280" y="7128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자유형 10"/>
            <p:cNvSpPr/>
            <p:nvPr/>
          </p:nvSpPr>
          <p:spPr>
            <a:xfrm>
              <a:off x="71280" y="61920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자유형 11"/>
            <p:cNvSpPr/>
            <p:nvPr/>
          </p:nvSpPr>
          <p:spPr>
            <a:xfrm>
              <a:off x="74160" y="7128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자유형 12"/>
            <p:cNvSpPr/>
            <p:nvPr/>
          </p:nvSpPr>
          <p:spPr>
            <a:xfrm>
              <a:off x="824040" y="85896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자유형 13"/>
            <p:cNvSpPr/>
            <p:nvPr/>
          </p:nvSpPr>
          <p:spPr>
            <a:xfrm>
              <a:off x="344160" y="341280"/>
              <a:ext cx="479520" cy="517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900-38B8-4EA7-B5CD-A36FA0CFC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29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299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91CE-3363-4FF0-87FA-6453B6012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347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350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7E7-9E36-4215-9BE6-2EBBC2CAD6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자유형 8"/>
          <p:cNvSpPr/>
          <p:nvPr/>
        </p:nvSpPr>
        <p:spPr>
          <a:xfrm>
            <a:off x="341280" y="106200"/>
            <a:ext cx="247680" cy="24948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자유형 9"/>
          <p:cNvSpPr/>
          <p:nvPr/>
        </p:nvSpPr>
        <p:spPr>
          <a:xfrm>
            <a:off x="71280" y="65412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자유형 10"/>
          <p:cNvSpPr/>
          <p:nvPr/>
        </p:nvSpPr>
        <p:spPr>
          <a:xfrm>
            <a:off x="74520" y="106200"/>
            <a:ext cx="247680" cy="249480"/>
          </a:xfrm>
          <a:prstGeom prst="pie">
            <a:avLst/>
          </a:prstGeom>
          <a:solidFill>
            <a:srgbClr val="3f949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자유형 11"/>
          <p:cNvSpPr/>
          <p:nvPr/>
        </p:nvSpPr>
        <p:spPr>
          <a:xfrm>
            <a:off x="824040" y="89388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자유형 12"/>
          <p:cNvSpPr/>
          <p:nvPr/>
        </p:nvSpPr>
        <p:spPr>
          <a:xfrm>
            <a:off x="344520" y="376200"/>
            <a:ext cx="479520" cy="517680"/>
          </a:xfrm>
          <a:prstGeom prst="pie">
            <a:avLst/>
          </a:prstGeom>
          <a:solidFill>
            <a:srgbClr val="3f949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033B-F59F-48C2-B572-BF8812600C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hyperlink" Target="http://100.naver.com/100.nhn?type=image_list&amp;docid=130078&amp;dir_id=04030106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1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2" action="ppaction://hlinksldjump"/>
              </a:rPr>
              <a:t>Traditional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3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4" action="ppaction://hlinksldjump"/>
              </a:rPr>
              <a:t>Modern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5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6072120" y="6143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eonghun, E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5" descr="http://dicimg.naver.com/100/400/79/10177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86080" y="1143000"/>
            <a:ext cx="25002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42640" y="61437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がぃら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428800" y="6000840"/>
            <a:ext cx="25290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セーラーふ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1" descr="gakuran8"/>
          <p:cNvPicPr/>
          <p:nvPr/>
        </p:nvPicPr>
        <p:blipFill>
          <a:blip r:embed="rId2"/>
          <a:stretch/>
        </p:blipFill>
        <p:spPr>
          <a:xfrm>
            <a:off x="1643040" y="1571760"/>
            <a:ext cx="1368360" cy="4429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ailor_fuku_girls"/>
          <p:cNvPicPr/>
          <p:nvPr/>
        </p:nvPicPr>
        <p:blipFill>
          <a:blip r:embed="rId3"/>
          <a:stretch/>
        </p:blipFill>
        <p:spPr>
          <a:xfrm>
            <a:off x="4643280" y="2643120"/>
            <a:ext cx="3714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57120" y="22856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nguro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（がんぐろ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et fashion became popular among Japanese girls in the early 2000s, this style consists of bleached hair, a dark tan, fake eyelashes, black and white eyeliner, accessories and platform sh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0" name="제목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785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images"/>
          <p:cNvPicPr/>
          <p:nvPr/>
        </p:nvPicPr>
        <p:blipFill>
          <a:blip r:embed="rId2"/>
          <a:stretch/>
        </p:blipFill>
        <p:spPr>
          <a:xfrm>
            <a:off x="214200" y="3500280"/>
            <a:ext cx="4184640" cy="2857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ganguro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제목 2" descr=""/>
          <p:cNvPicPr/>
          <p:nvPr/>
        </p:nvPicPr>
        <p:blipFill>
          <a:blip r:embed="rId1"/>
          <a:stretch/>
        </p:blipFill>
        <p:spPr>
          <a:xfrm>
            <a:off x="420840" y="73188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28760" y="350028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ゆかた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_eN9tjMgZI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428760" y="4500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8fhgnofgg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0VWK3IQv3S4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500040" y="56437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んぐ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jnCrz-fBF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7"/>
          <p:cNvSpPr/>
          <p:nvPr/>
        </p:nvSpPr>
        <p:spPr>
          <a:xfrm>
            <a:off x="428760" y="25002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きも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QsJgPVaNP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The traditional forms of japanese clothing or japanese clothes in general is called wafuku(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わ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). Traditional japanese clothing can be broken down into the following clothing categories.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1" action="ppaction://hlinksldjump"/>
              </a:rPr>
              <a:t>きも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2" action="ppaction://hlinksldjump"/>
              </a:rPr>
              <a:t>ゆかた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3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5" name="Rectangle 2" descr=""/>
          <p:cNvPicPr/>
          <p:nvPr/>
        </p:nvPicPr>
        <p:blipFill>
          <a:blip r:embed="rId4"/>
          <a:stretch/>
        </p:blipFill>
        <p:spPr>
          <a:xfrm>
            <a:off x="237960" y="60336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599"/>
              </a:spcAft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meaning clothing or things to wear is the basic japanese 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oday, most formal kimono are made of rayon, cotton sateen, cotton, polyester and other synthetic fibers except for the traditional wedding kimo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31431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kimono part"/>
          <p:cNvPicPr/>
          <p:nvPr/>
        </p:nvPicPr>
        <p:blipFill>
          <a:blip r:embed="rId2"/>
          <a:stretch/>
        </p:blipFill>
        <p:spPr>
          <a:xfrm>
            <a:off x="142920" y="1714680"/>
            <a:ext cx="8840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40291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맑은 고딕"/>
              </a:rPr>
              <a:t>Kimono were traditionally worn by men as daily wear clothing, but today they are usually only worn for festivals, ceremonies, special occasions and as kimono rob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3" name="Picture 5" descr="men's kimono"/>
          <p:cNvPicPr/>
          <p:nvPr/>
        </p:nvPicPr>
        <p:blipFill>
          <a:blip r:embed="rId2"/>
          <a:stretch/>
        </p:blipFill>
        <p:spPr>
          <a:xfrm>
            <a:off x="5643720" y="2000160"/>
            <a:ext cx="207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The yukata is a japanese summer kimono worn by both men and women. The name yukata comes from the word ”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ゆ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(bath) and “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かたび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" (under cloth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1133640" y="328680"/>
            <a:ext cx="7486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09120" y="5181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here are many matching accessories that can be purchased separately when buying a yukata.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7" name="Picture 6" descr="japanese yukat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433680" cy="4648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yukat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04920"/>
            <a:ext cx="354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HGP明朝E"/>
                <a:hlinkClick r:id="rId1" action="ppaction://hlinksldjump"/>
              </a:rPr>
              <a:t>School Uniform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　　　　（がくらん）、（セーラーふく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Ganguro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んぐ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제목 1" descr=""/>
          <p:cNvPicPr/>
          <p:nvPr/>
        </p:nvPicPr>
        <p:blipFill>
          <a:blip r:embed="rId2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he Japanese junior and senior high school uniform traditionally consists of a military style uniform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くらん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boys and a sailor dress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セーラー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gir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2" name="제목 1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4:08Z</dcterms:created>
  <dc:creator>SD#34</dc:creator>
  <dc:description/>
  <dc:language>en-US</dc:language>
  <cp:lastModifiedBy>park</cp:lastModifiedBy>
  <dcterms:modified xsi:type="dcterms:W3CDTF">2009-12-11T00:09:54Z</dcterms:modified>
  <cp:revision>19</cp:revision>
  <dc:subject/>
  <dc:title>Japanese Clothing</dc:title>
</cp:coreProperties>
</file>